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B78-2E95-47DA-A3A0-0A614581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AD4-FDE2-4C6D-AE34-CA055533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B7D-DD16-40EC-A2EE-375538E9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CE8-E27E-4188-8402-B9284102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6B16-6597-4056-B1FF-5B032B36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31C2-CC34-425F-93E2-381EE0AF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78B0-C329-4002-824B-E73BD80E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9724-76E7-412F-978F-74F7731A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26B0-2EAF-4276-BC57-D6C67A99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755B-8383-4154-B9B3-6EED9AB9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6F87-DAFF-44E1-B8EB-56C8DDBF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CDA2-AA97-4A6A-8F2F-734BEAAC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34FF-2521-4B3E-95A0-82BA503D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4387-F9D0-41FB-A736-6F86FB8D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B85D-43C6-4090-B8D6-3F04588E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670F-8646-48F9-BCDC-5CDA88BF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931E-F711-4E79-9DCB-F0E16AB5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37B9A-1EEC-4DA0-9F9D-1BD31F32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10F38-CA77-4CAC-83CA-77B09D0B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269F1-40B2-4D74-BE57-401B1823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F6290-8B86-46D1-B8D1-1E358A20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46EDF-23D1-40B1-8161-3A5956C6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160-A03D-472C-AD16-5A5D4130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42819-4019-4EBB-AFAF-80794D7C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FC37-4857-421A-B420-CFFE854D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CD3F1-513F-49D5-BAA4-F8DC0EB4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2C882-0E33-432E-B61B-1182399F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43A4E-1480-4D52-90C9-726C0FD7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F41D0-1155-4501-AFA0-BCF22095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FDEA2-1BD6-40B4-9CC0-7757A784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1AE8A-D5A4-48C4-B6C1-B9B069C3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A8B27-A1AC-4F4D-B25E-286306B4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A2924-20F9-4254-8CBA-0B02213B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127-D000-44F1-B2E1-F6E89FBD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4341C-43ED-4B65-8000-40E7B804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CBB0A-FB88-4799-A8D0-8037A4A0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9D856-5B01-42E1-9587-755AAC81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D6064-BDAE-47A9-9BC1-8F196230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88856-65B7-4DDE-BDEB-A301B624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BA14E-0070-4CBA-84B9-1A23F1A2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3A043-9E72-4B4D-909F-89CB828D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67D3D-7FF3-4CD0-B7BA-2C7130BB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4576D-C80A-4679-8056-06D4BD3B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EE3D3-0D9F-473E-8773-69475225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AA8-F27B-4873-B4D3-1C87950C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2F5B7-622F-46EA-827D-5FA8B97E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DE9F9-062C-430B-BE38-9E899D32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2F2AD-7735-4121-B672-E4F199E0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F62CC-9303-4351-B48F-52CDDCA0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7C846-1EE4-4158-BDE0-EBBD7C84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88A86-4504-446A-B5F2-4A046176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DCF07-635C-4159-AA83-66C9411C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91EDF-4E5B-452F-A730-CC49B421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D7AD2-5C36-46EB-9228-77B12A9A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6C5AD-F276-4E0F-9C9D-C52C8013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E0A-DC29-4E3F-B876-2A2ECBDC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E9F19-E192-4467-84B7-CAE42A47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392F8-199E-4FAA-AE56-D02259E4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D68F6-606F-4EEC-9E35-0185E490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879DF-ABD6-4C23-BD61-61374886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F08CA-28CD-4949-8081-07B5040A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1E157-B75C-4E09-8425-C02BB64E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76D64-6A8F-479E-95D1-C57A037D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EA6BD-A0F3-42D3-8F73-D853F8FE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2FC21-7FB4-4ACA-A4E3-38158138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DD627-C3C2-4D7D-AA3D-47BFDC83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38E-4E80-44A7-AF58-1D7CE23D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3B4BB-2361-4BF8-9C68-FE38B0CA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00A9D-D0E8-4331-B969-178B7404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AF781-E03D-4549-872D-2874C94C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84F18-581F-4F70-9565-EAC260FE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64F1F-50A0-42D2-BF2D-BAB67C3F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34486-5C44-4FD5-997C-32CD4B17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ED839-A4B5-4538-8F56-3CDE4C1C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9756D-55AB-4C6C-9463-1BB94280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3F348-5C2C-417C-8699-91CEAFB2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F26DC-DB92-4EA9-BDC8-C1C6AF4D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59B-201B-471C-ADC3-A0FC7B69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91B45-E182-424C-B506-C3BF5CC2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C6B7A-804D-400D-BA7B-4778337B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A3B8F-A61E-4965-B01B-D70ED537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CCD4F-C9F3-4452-B4B1-ED417EF9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DFBDF-4B32-4D2C-A065-53DE5652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1E5A3-6015-4D82-81E6-3A35CBA3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74616-3479-46F8-8DF9-8FA898AE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9AF60-D19C-4D44-965A-2CFD3ADF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AB6FE-CBC3-4B63-9041-628B67C7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F7FFE-8D81-4CC6-B860-620916E1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6A2-FAE6-484D-A3BA-D3264674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1EEBD-0528-4C26-9079-0FA5B58E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9FEEB-DAB3-4CB5-A704-814623BE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BA749-4322-4FE2-8ACC-10DAC7F3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84D34-E3CF-41F5-8E4B-278861F0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53CEB-2140-4537-BF82-6F0C4D7D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A3446-1336-497B-841D-328CA44F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18DF4-9491-40FF-9BEB-25AB2FB7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98C5-641E-43BD-80F3-E5D509BA2EF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AF50-EEB4-4CB6-B3C1-E400126EF33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96AD-513F-4271-8D10-DB9147F4801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8AA5-5531-45B6-8350-F0D580C69B7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2C1D-723F-4A56-907F-65B436CB0A6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6931-7348-45D8-B42D-33AA84C50FA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E4B3-C182-493A-B981-2E4C9CFC914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254E-7313-4F1E-AF5C-FE39ED19565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Fresh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689040" y="1066680"/>
            <a:ext cx="8083440" cy="22068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914400" y="2971800"/>
            <a:ext cx="7772400" cy="2255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Writing assign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hare sto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Begin new story in boo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wont be going to the west this spring however they’ll be going to connecticu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am ny stister have chose to do the following start shopping for video games compare prices on-line and send to emai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uby:Red::Opal: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uffaw:laugh::shout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Write a paragraph about a time you had to make a tough decision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Be prepared to share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6310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1:52:48Z</dcterms:created>
  <dc:creator>litchfield</dc:creator>
  <dc:description/>
  <dc:language>en-US</dc:language>
  <cp:lastModifiedBy>Angie McCall</cp:lastModifiedBy>
  <dcterms:modified xsi:type="dcterms:W3CDTF">2011-09-01T20:10:10Z</dcterms:modified>
  <cp:revision>18</cp:revision>
  <dc:subject/>
  <dc:title>Sept. 2</dc:title>
</cp:coreProperties>
</file>